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3331-B2D8-4BB3-AC00-10849AC58E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4C4E-8CB9-44D6-9951-81A99F26E5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5394-9A94-4076-847C-07C1A575E7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2868-3DC0-452B-911D-46DFBFF83F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B833-9E8D-484A-90F8-BF69218FD4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99D7-FD88-42D7-90E2-F69579584C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1A2-D5B7-48C8-9373-C2DC3F5882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F020-6D38-44A6-87FA-6473A5295E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1254-4361-4D41-B442-92989F6876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8138-4ABC-4B4B-ABCC-A15E961FE6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7814-DED7-45A5-BB39-A2005554D5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48E-A328-4239-836F-DD085516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3CB-BA08-4C85-A04A-B4CB4AA4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2DD-F959-4762-9096-2C12B5EC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A08-1233-4C77-9C26-F542EDEA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EBB-3B1A-4323-B357-6AE98808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AD9-E32F-4B19-995E-EDD71111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FA5-D29A-46B7-BEE8-EB2D02FA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26D-BB40-48E3-8F35-17F3C45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587-1AA2-4A1F-9107-08AE5694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288-295D-4C07-8FDC-408FE10C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EBE-95C2-4367-AF33-1F754104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B24-A07E-4365-8DAD-D4270CE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DDF-9855-4767-9802-C58B93DD9E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8320" y="47628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227640" y="5060880"/>
            <a:ext cx="27306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101520" y="51228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35000" y="1160640"/>
            <a:ext cx="22654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6948360" y="2274840"/>
            <a:ext cx="1719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114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26920" y="1971720"/>
            <a:ext cx="21272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4292280"/>
            <a:ext cx="4244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246720" y="2205000"/>
            <a:ext cx="2549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2965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4284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5T09:10:26Z</dcterms:modified>
  <cp:revision>37</cp:revision>
  <dc:subject/>
  <dc:title>People who change the world</dc:title>
</cp:coreProperties>
</file>